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7F9E-04BB-40DD-8ADD-41F798ECD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7668-482F-43FA-B7B3-F2AE267A8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DC31-1715-443F-B47B-28594DF0B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46B5-4EB6-4D80-92BB-95BF4420F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F023-9A9B-4C7B-8E75-B4282345B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9CBA-B4D6-4DF0-A8F7-E09AF31C7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7925-B159-4BE8-93DC-84CC3E33E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494A-4964-478F-97A6-1A67CB76F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3092-F334-4A8E-A2A4-BBCA509D9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772F-7737-4EC1-8DAA-17B779649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1E78-266A-49B7-A9C7-DFE12D662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A350-0595-492B-A6FD-9A7E9154B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A4AB1-F0AF-45FB-A81E-DF6EB4C591C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50560" y="1785600"/>
            <a:ext cx="88930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性别：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年龄：</a:t>
            </a:r>
            <a:r>
              <a:rPr b="1" lang="en-US" sz="1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国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毕业院校及学历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海外工作机构及职务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海外主要工作经历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2"/>
          <p:cNvSpPr/>
          <p:nvPr/>
        </p:nvSpPr>
        <p:spPr>
          <a:xfrm>
            <a:off x="214200" y="285840"/>
            <a:ext cx="822960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70c0"/>
                </a:solidFill>
                <a:latin typeface="宋体"/>
              </a:rPr>
              <a:t>英文名</a:t>
            </a:r>
            <a:r>
              <a:rPr b="1" lang="en-US" sz="3700" spc="-1" strike="noStrike">
                <a:solidFill>
                  <a:srgbClr val="0070c0"/>
                </a:solidFill>
                <a:latin typeface="宋体"/>
              </a:rPr>
              <a:t> </a:t>
            </a:r>
            <a:r>
              <a:rPr b="1" lang="zh-CN" sz="3700" spc="-1" strike="noStrike">
                <a:solidFill>
                  <a:srgbClr val="0070c0"/>
                </a:solidFill>
                <a:latin typeface="宋体"/>
              </a:rPr>
              <a:t>英文姓（中文姓名）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24000" y="3141720"/>
          <a:ext cx="8377200" cy="2278080"/>
        </p:xfrm>
        <a:graphic>
          <a:graphicData uri="http://schemas.openxmlformats.org/drawingml/2006/table">
            <a:tbl>
              <a:tblPr/>
              <a:tblGrid>
                <a:gridCol w="2687760"/>
                <a:gridCol w="768240"/>
                <a:gridCol w="457200"/>
                <a:gridCol w="766800"/>
                <a:gridCol w="647640"/>
                <a:gridCol w="144360"/>
                <a:gridCol w="2905200"/>
              </a:tblGrid>
              <a:tr h="2779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职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时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国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单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094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86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5014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06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44" name="TextBox 6"/>
          <p:cNvSpPr/>
          <p:nvPr/>
        </p:nvSpPr>
        <p:spPr>
          <a:xfrm>
            <a:off x="7000920" y="714240"/>
            <a:ext cx="1500120" cy="20142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7"/>
          <p:cNvSpPr/>
          <p:nvPr/>
        </p:nvSpPr>
        <p:spPr>
          <a:xfrm>
            <a:off x="428760" y="214200"/>
            <a:ext cx="550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附件四     评审演示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模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矩形 4"/>
          <p:cNvSpPr/>
          <p:nvPr/>
        </p:nvSpPr>
        <p:spPr>
          <a:xfrm>
            <a:off x="539640" y="1197000"/>
            <a:ext cx="7272360" cy="12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黑体"/>
                <a:ea typeface="黑体"/>
              </a:rPr>
              <a:t>项目单位及拟任职务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黑体"/>
                <a:ea typeface="黑体"/>
              </a:rPr>
              <a:t>专项特长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500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字以内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4"/>
          <p:cNvSpPr/>
          <p:nvPr/>
        </p:nvSpPr>
        <p:spPr>
          <a:xfrm>
            <a:off x="539640" y="1557360"/>
            <a:ext cx="302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项目单位评价</a:t>
            </a:r>
            <a:r>
              <a:rPr b="1" lang="en-US" sz="1800" spc="-1" strike="noStrike">
                <a:solidFill>
                  <a:srgbClr val="cc3300"/>
                </a:solidFill>
                <a:latin typeface="黑体"/>
                <a:ea typeface="黑体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350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字以内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8"/>
          <p:cNvSpPr/>
          <p:nvPr/>
        </p:nvSpPr>
        <p:spPr>
          <a:xfrm>
            <a:off x="920520" y="549360"/>
            <a:ext cx="130860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70c0"/>
                </a:solidFill>
                <a:latin typeface="宋体"/>
              </a:rPr>
              <a:t>单位评价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4"/>
          <p:cNvSpPr/>
          <p:nvPr/>
        </p:nvSpPr>
        <p:spPr>
          <a:xfrm>
            <a:off x="539640" y="1700280"/>
            <a:ext cx="4103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黑体"/>
                <a:ea typeface="黑体"/>
              </a:rPr>
              <a:t>评审专家评价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539640" y="549360"/>
            <a:ext cx="216072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70c0"/>
                </a:solidFill>
                <a:latin typeface="宋体"/>
              </a:rPr>
              <a:t>专家评价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28T01:36:42Z</dcterms:created>
  <dc:creator>Administrator</dc:creator>
  <dc:description/>
  <dc:language>en-US</dc:language>
  <cp:lastModifiedBy>User</cp:lastModifiedBy>
  <dcterms:modified xsi:type="dcterms:W3CDTF">2013-06-28T01:53:00Z</dcterms:modified>
  <cp:revision>1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</Properties>
</file>